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9BC4-CB56-4062-9123-D346C41A63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981-9977-417E-ACAC-96698F8EF3B9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23D-EA29-4659-84D1-BA0B100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5A1-3D1C-441E-85EF-CEB756AD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AAD-AD23-43A1-9B22-EFEC03D0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192-D60E-43A2-97DE-93F3C9F1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837A-10D4-4353-9A94-C7B8A3E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AFB1-FFC6-4032-8BE6-263DF0C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12FB-4CBD-45D7-9047-125ABCF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7785-F5B6-4AD1-98AC-81C82D62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576A-E907-4EB6-B4CB-9A5EEB35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6A93-A4D3-4B08-AE30-EDB559A6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060B-DA0D-42BE-B399-3878D0D3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6C7-54CD-43C6-9406-1224509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128F-1F17-4ABA-BFF5-6C8EFEB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821-52EF-409D-9831-62764AE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71FA-6F89-4A3E-A3D5-95078776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1439-FAFB-43FD-93E2-FD0CD026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1B3-B16C-4CBD-9395-4911B162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3F69-00C8-471D-BDFE-92A74C6A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A93EA-EA77-4519-B415-973D344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CBC6-863C-4AF3-9704-93AD526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C10A-8B84-413D-B116-4DCEC62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34CD-A2EC-4741-A344-BBC52FA1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B9D-AFF9-470A-9EA0-940902F2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5D70-9BE8-4667-BFE5-EC3F1974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1DED-2A7D-4717-927B-99037FBE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2381-9AF0-4CB2-84C2-97849B0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1182-BF22-4DE3-A407-DAB9D54F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0F72-73B9-4E2C-A930-4E6B1934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60CC-57CE-42B8-A659-6A772157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2A34-5D6F-4D7A-89B0-07A11801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30A7-4915-4441-990B-E8D934BA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36C2-20C0-441C-9898-C42E166D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FE59-A098-4DA0-AA7E-B16A2027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7D2-63A4-4F32-A4D9-84FA74B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EB6E-880A-4365-9AA4-F4D27E1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8529-F663-4587-8C4C-57D3CC7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327A-1C9F-453A-9F82-0C3FA339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F141-89D2-4C30-B3FD-9D6FD440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0075-E0F4-4D6F-A35C-3AF5DA26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CD57-F9E6-488C-AC76-D854530B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DA81-B2E5-4CA1-BB3C-2A2EC0F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6561-E2E9-4DA9-9C9A-C2378598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7C18-348E-4694-94D1-4B2ECFC9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D09C-2375-45F8-936D-26137C49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70E-1938-483A-B32E-7D07E7D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4645-3CB2-4148-9A69-E4E0B4EE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3B852-3E9F-4DAE-AF99-53630DF8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0EA3-E300-4E77-BB94-0CC690E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0CA5-1FCA-48FB-AF09-2755CF8D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309D-FEC1-4FAA-BC32-0B043D4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1AB96-EF96-4315-A02B-F7DC802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12B9-41D5-4386-A364-F43F7B9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AFC4-FC38-416E-9C6C-4F07469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4CC7-F651-4D81-A985-9C0AF36D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6F2CC-74C8-4795-9691-0299FFBB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C2F-8C18-4380-8DFF-347816C5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9BB1-1508-4907-8819-BD6D29A4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437F0-8FAD-457B-AAC1-D594330C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DFF04-39B0-4584-BEE3-EE697934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F21D-DE2A-4930-8161-575A3A30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E46C1-A825-4823-BCE7-1852003B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DEECA-A9A7-4EB3-9FBA-836FC67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11615-FFAB-45B6-A2FD-D6CFF8C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0A350-0FDA-411D-8D8E-343CC6A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2AC07-B6D4-4833-AD7D-F111D1C4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7357-ED7A-469A-B8C8-94900CC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C0B-7859-46F9-9E63-633E02F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CDE5-3BF9-4C43-9FFE-CA4FFC11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AF9B2-42FA-498E-90BC-2EA08128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2EA0-8B17-4B84-A3C3-8538ED8F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5CE-A9B2-4CAC-B4DF-F2476F8E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8AD-8F44-4907-BC4A-EED617B4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331-72F2-4FAA-BA36-0A1DA2FE8B34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133-D0BA-45B1-8F49-13259C75FA82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FE97-E056-4692-983E-D6513ACF12B2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6781-2D25-4089-B0EF-93187FAE9D6B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D378-5F56-41E2-90A1-53EC05AF1050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C3A-16DA-49B7-A71A-1AF285143F12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image" Target="../media/image2.jpeg"/><Relationship Id="rId11" Type="http://schemas.openxmlformats.org/officeDocument/2006/relationships/slide" Target="slide10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341280" y="96840"/>
            <a:ext cx="8418600" cy="1665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400" y="128592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By-l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B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L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A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Qu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Fed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Election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Kevin Rudd"/>
          <p:cNvPicPr/>
          <p:nvPr/>
        </p:nvPicPr>
        <p:blipFill>
          <a:blip r:embed="rId10"/>
          <a:stretch/>
        </p:blipFill>
        <p:spPr>
          <a:xfrm>
            <a:off x="4786200" y="2143080"/>
            <a:ext cx="3148200" cy="31482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5"/>
          <p:cNvSpPr/>
          <p:nvPr/>
        </p:nvSpPr>
        <p:spPr>
          <a:xfrm>
            <a:off x="7715160" y="6072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End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65040" y="3408480"/>
            <a:ext cx="6973920" cy="20113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b0f0"/>
                </a:solidFill>
                <a:latin typeface="Arial"/>
              </a:rPr>
              <a:t>The en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C:\Program Files\Microsoft Office\Media\CntCD1\Animated\j0236322.gif"/>
          <p:cNvPicPr/>
          <p:nvPr/>
        </p:nvPicPr>
        <p:blipFill>
          <a:blip r:embed="rId2"/>
          <a:stretch/>
        </p:blipFill>
        <p:spPr>
          <a:xfrm>
            <a:off x="6000840" y="357120"/>
            <a:ext cx="2852640" cy="2643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d:\Users\harrisonv.STAWELL-PS\AppData\Local\Microsoft\Windows\Temporary Internet Files\Content.IE5\CCLVLYZ0\MCj04420240000[1].wmf"/>
          <p:cNvPicPr/>
          <p:nvPr/>
        </p:nvPicPr>
        <p:blipFill>
          <a:blip r:embed="rId3"/>
          <a:stretch/>
        </p:blipFill>
        <p:spPr>
          <a:xfrm>
            <a:off x="428760" y="785880"/>
            <a:ext cx="2571480" cy="18190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357120" y="5643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nd  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By-la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7467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by-law is a local or council government la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C:\Program Files\Microsoft Office\Media\CntCD1\ClipArt7\j0339254.wmf"/>
          <p:cNvPicPr/>
          <p:nvPr/>
        </p:nvPicPr>
        <p:blipFill>
          <a:blip r:embed="rId2"/>
          <a:stretch/>
        </p:blipFill>
        <p:spPr>
          <a:xfrm>
            <a:off x="6000840" y="1998720"/>
            <a:ext cx="2765160" cy="277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Bil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bill is a proposal to change laws or to make law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C:\Program Files\Microsoft Office\Media\CntCD1\Animated\j0219098.gif"/>
          <p:cNvPicPr/>
          <p:nvPr/>
        </p:nvPicPr>
        <p:blipFill>
          <a:blip r:embed="rId1"/>
          <a:stretch/>
        </p:blipFill>
        <p:spPr>
          <a:xfrm>
            <a:off x="6357960" y="2714760"/>
            <a:ext cx="2236680" cy="2585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La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Law is a rule or lots of rules made by the gover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C:\Program Files\Microsoft Office\Media\CntCD1\ClipArt7\j0339254.wmf"/>
          <p:cNvPicPr/>
          <p:nvPr/>
        </p:nvPicPr>
        <p:blipFill>
          <a:blip r:embed="rId1"/>
          <a:stretch/>
        </p:blipFill>
        <p:spPr>
          <a:xfrm>
            <a:off x="6413400" y="2714760"/>
            <a:ext cx="2730600" cy="273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Ay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Aye is someone in the government  who votes y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C:\Program Files\Microsoft Office\Media\CntCD1\ClipArt5\j0280925.wmf"/>
          <p:cNvPicPr/>
          <p:nvPr/>
        </p:nvPicPr>
        <p:blipFill>
          <a:blip r:embed="rId1"/>
          <a:stretch/>
        </p:blipFill>
        <p:spPr>
          <a:xfrm>
            <a:off x="6381720" y="3184560"/>
            <a:ext cx="1943280" cy="2014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Ac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act is a law made by Parliamen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Program Files\Microsoft Office\Media\CntCD1\ClipArt7\j0339254.wmf"/>
          <p:cNvPicPr/>
          <p:nvPr/>
        </p:nvPicPr>
        <p:blipFill>
          <a:blip r:embed="rId1"/>
          <a:stretch/>
        </p:blipFill>
        <p:spPr>
          <a:xfrm>
            <a:off x="6357960" y="2928960"/>
            <a:ext cx="2297160" cy="2301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Que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The Queen is Australia's ruler. Her title since 1973 has been ‘Elizabeth the Seco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d:\Users\harrisonv.STAWELL-PS\AppData\Local\Microsoft\Windows\Temporary Internet Files\Content.IE5\5CTK9SDO\MCj04059120000[1].wmf"/>
          <p:cNvPicPr/>
          <p:nvPr/>
        </p:nvPicPr>
        <p:blipFill>
          <a:blip r:embed="rId1"/>
          <a:stretch/>
        </p:blipFill>
        <p:spPr>
          <a:xfrm>
            <a:off x="5958000" y="2827440"/>
            <a:ext cx="240012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Feder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93400" y="1106640"/>
            <a:ext cx="76359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Federal is the Parliament of Australia and the Australian Government both toge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C:\Program Files\Microsoft Office\Media\CntCD1\ClipArt1\j0186152.wmf"/>
          <p:cNvPicPr/>
          <p:nvPr/>
        </p:nvPicPr>
        <p:blipFill>
          <a:blip r:embed="rId1"/>
          <a:stretch/>
        </p:blipFill>
        <p:spPr>
          <a:xfrm>
            <a:off x="5500800" y="2786040"/>
            <a:ext cx="1141200" cy="1806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Program Files\Microsoft Office\Media\CntCD1\ClipArt3\j0233442.wmf"/>
          <p:cNvPicPr/>
          <p:nvPr/>
        </p:nvPicPr>
        <p:blipFill>
          <a:blip r:embed="rId2"/>
          <a:stretch/>
        </p:blipFill>
        <p:spPr>
          <a:xfrm>
            <a:off x="6707160" y="2786040"/>
            <a:ext cx="2436840" cy="1936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Election is when people run* for prime minister. the people in that state vote for their favouri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*(run means go for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C:\Program Files\Microsoft Office\Media\CntCD1\ClipArt5\j0280925.wmf"/>
          <p:cNvPicPr/>
          <p:nvPr/>
        </p:nvPicPr>
        <p:blipFill>
          <a:blip r:embed="rId1"/>
          <a:stretch/>
        </p:blipFill>
        <p:spPr>
          <a:xfrm>
            <a:off x="5448240" y="3355920"/>
            <a:ext cx="1943280" cy="201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6:26Z</dcterms:created>
  <dc:creator>Education</dc:creator>
  <dc:description/>
  <dc:language>en-US</dc:language>
  <cp:lastModifiedBy>Education</cp:lastModifiedBy>
  <dcterms:modified xsi:type="dcterms:W3CDTF">2009-10-20T23:29:57Z</dcterms:modified>
  <cp:revision>7</cp:revision>
  <dc:subject/>
  <dc:title>Government glossary</dc:title>
</cp:coreProperties>
</file>